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33.jpeg" ContentType="image/jpeg"/>
  <Override PartName="/ppt/media/image45.png" ContentType="image/png"/>
  <Override PartName="/ppt/media/image34.jpeg" ContentType="image/jpeg"/>
  <Override PartName="/ppt/media/image37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12.jpeg" ContentType="image/jpeg"/>
  <Override PartName="/ppt/media/image36.png" ContentType="image/png"/>
  <Override PartName="/ppt/media/image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4.jpeg" ContentType="image/jpeg"/>
  <Override PartName="/ppt/media/image40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EAA-1515-486B-9A50-EFE0A234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6B3-A8B6-4FC9-965E-BF645021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3DE5D-602B-4FB2-8FF3-2E9971AF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4011D-332D-41B2-94AD-1EAAA2A4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0A158-4A9D-4C41-9B06-59A88DA6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3F736-2BB0-431D-BB73-D44280D4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B1A5D-0AB9-4DAF-870F-AB4D66F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EA82B-7CB7-49F5-B82D-7EC6731E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71236-0C2D-40ED-AFAD-4F0AFD55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973E2-D1D9-4885-AC77-72566DDE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67E5F-7035-46CC-8DDB-090ACE74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DE0-37E6-4BCA-8D4E-4F77D37D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C91-6317-416E-88FD-AF507F8C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E60-66D7-4882-9F47-0E424710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8274-EC9A-48C3-AE34-98773A0D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D392-D9A4-4DB2-86A8-2F865AB3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EBB7-510F-4724-8C76-BD8EC41A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5BFC-2635-41EB-9594-8324E199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1A53-3DF8-4660-BCE6-EC057C3A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5794-2E5A-43F1-929E-607EB09A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DFB-0E25-413B-9A69-DF3ADDCD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D812-B05D-4EA7-B7CC-DE0C9BF8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6691-FB1D-447A-87B3-6117362C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17D5-B87D-42E3-867B-368F5771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C5D-22DC-4B80-BE9F-75C50CCC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6643-3FC6-467D-BE1C-53CEB518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2723-A802-4244-87F6-503B77EA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2F8B-2D75-4EE0-B88D-F216B69C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C3EB-AB90-4CBA-961C-95F1F7FB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BD949-A126-425A-A750-00D4BD13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592EC-8F09-47CF-9C26-E40E12DA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905-A4B7-458A-8C55-B64A51F2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495F0-54CB-4D2E-9AA0-F6F1EC97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3629-1E95-4BDF-847E-9601B66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4822D-A087-4943-8698-ED5289E4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238E-0E77-42A0-AFD4-532FA45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E7F1-0BB8-41A1-9303-9FD9F731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8947-B04E-455B-9707-1F8129BD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0DC9-521C-4F98-93EB-0B17B224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06BC2-34A2-43E9-AFC8-526172B6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71F61-B40C-4402-92AB-38F5183C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F8ABA-ADF8-498C-BBF1-97E64020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594-BC98-43E1-BE65-90D36F99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14141-5738-44AD-AAEC-D7F085D0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E522-3423-4C2C-80B0-5A51C84E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F6391-ACBD-45E5-91E0-82AC642E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1EE39-CE29-436A-BE3C-9070CF2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8509-3C5E-4435-8317-AA8BA16E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E3542-8C16-4917-B3AC-12E20569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9578-48FC-443C-A568-A8794FE6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B001B-C309-45D3-8FEB-36BB86C8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FB51-FF2D-4121-8681-0ED6FD43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C2EC-7E57-4408-8F9C-451EEC44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807-167F-4A9A-9A4F-ECADDE35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52B51-2DDD-4B92-B13A-357F51DB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F09B-AB73-47A3-8B9B-6A355E7B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9BAED-8E89-4BAF-96C8-219D7FA1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99865-F98D-448F-983E-51BFA786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5E923-DCEE-4F7B-AFD2-252CB06B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26EAF-CAE6-4D3B-82B5-B1DA5A93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6EB5B-B45D-488B-BBAC-C007D21E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29C8D-0A78-4DA8-BCDC-128BF138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9B6BB-45BD-480D-A246-FC83EAD4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FA074-2A04-4C0A-B418-A41FCEBC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208-082D-4F1C-8FD3-1ACE9480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14D31-EADE-4987-A5E8-3F3F8D7A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42405-22AE-4CDC-828F-75716476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771AF-E347-4CA8-81C1-CE9BF744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5A8BA-AA12-4802-8D8F-37B31B8A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CA7CD-B267-4AB5-90E6-14620282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13B31-022E-4152-B55F-D5DCA602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14EF3-23E2-4914-A237-1D9E3120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B4D85-DF09-4F46-BAB1-2556E245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5DF88-85F5-47FA-8C92-7A15E27C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910C1-92E7-4C8D-8DC1-31683735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2AC-E279-4C60-83D9-6F9768B3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8CBEC-4B39-4C28-A431-347487FC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54B85-365E-46E6-8693-726F5972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94985-18D3-475C-889C-0809A2D7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4E4DD-63C4-4553-890D-4FF2C20F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37ADC-A291-41DB-8DD5-B57F3DD9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DFE74-8A5F-4A1A-97BC-0C43292C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0AB87-CEE0-4BDA-B739-709809F2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B51A5-DB86-4FB2-ABE0-C8F43058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7457B-F3B9-48D1-90EA-E5949464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721BC-5818-4526-A607-2264505B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68B-042E-4EE4-86D6-1DC8F01C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5C9A0-1492-4041-9930-8BB05723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2DC8-3238-447A-B6CB-01E8164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BA7B4-5CD0-477F-81C4-7FE76EC5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A9DE3-3C6E-4DD4-A1AA-52AF5379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86DFB-222D-49CC-8096-46EB5886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5864C-7DF6-4F68-B5D9-E0FEE4E3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C40F5-F528-4EF6-B640-2F23FD30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39D5D-3C36-45E8-A6A5-6693942A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00308-B11D-4EF5-BC1D-7FB982F4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7E5B0-180B-4634-8692-1C4161D4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8EB-9D8F-4633-B2CC-4B240ECB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CD2F3-FB44-4571-A49D-9E768D97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C950C-74FB-4123-A704-AA4156A3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C57C4-2A62-4079-9BFB-67DA0A3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45E1B-7FCE-4456-A5A9-209050D7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A8D6D-03ED-4AEE-99D9-5DA8A09B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03E83-8280-417A-A6F5-D02E3037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63B9D-B5EB-4314-BF17-2B4E6E8E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14D1F-43CA-4F5E-B0F0-51C9F4F2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E79EC-9C17-450E-A9E8-A73D1359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51E93-5B24-41B8-A713-7D372297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ttore 1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ttore 1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E3B8-361E-4C7F-9B84-1B84C60E057D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ttore 1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ttore 1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ttore 1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ttore 1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ttore 1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ttore 1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9E56-5FDC-4EAE-89E1-8E3D1A02EAF2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ttore 1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ttore 1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ttore 1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ttore 1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ttore 1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ttore 1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90B3-DEF8-42F7-9017-C78D053BBA3A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ttore 1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ttore 1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F5E1-25CA-4898-AE9C-21631758C8B1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ttore 1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ttore 1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6CCC-0C83-40A5-BC84-C114AA8C916A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CC52-F4E2-4676-94AB-BDB7E5FC1C09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ttore 1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ttore 1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A205-B54A-44C0-8F0B-3F848C69E663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B612-8768-4579-B76B-86449650BF6E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EC5C-785C-45AD-BA1B-8F1F341A5824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1280" y="549000"/>
            <a:ext cx="871236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4e3b30"/>
                </a:solidFill>
                <a:latin typeface="Showcard Gothic"/>
              </a:rPr>
              <a:t>AUTOPRESENTAZIONE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Sottotitolo 2"/>
          <p:cNvSpPr/>
          <p:nvPr/>
        </p:nvSpPr>
        <p:spPr>
          <a:xfrm>
            <a:off x="360360" y="5300640"/>
            <a:ext cx="867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Franklin Gothic Book"/>
              </a:rPr>
              <a:t>Corso di Matematiche Elementari da un punto di vista Superior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Franklin Gothic Book"/>
              </a:rPr>
              <a:t>A.A. 2012-2013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Franklin Gothic Book"/>
              </a:rPr>
              <a:t>Lavoro eseguito da 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Franklin Gothic Book"/>
              </a:rPr>
              <a:t>Elisa Testi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1" name="Picture 3" descr="D:\ELISA\Immagini e foto\FOTO\matrimonio sara\Immagine 070.jpg"/>
          <p:cNvPicPr/>
          <p:nvPr/>
        </p:nvPicPr>
        <p:blipFill>
          <a:blip r:embed="rId1"/>
          <a:stretch/>
        </p:blipFill>
        <p:spPr>
          <a:xfrm>
            <a:off x="3373560" y="1531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ottotitolo 2"/>
          <p:cNvSpPr/>
          <p:nvPr/>
        </p:nvSpPr>
        <p:spPr>
          <a:xfrm>
            <a:off x="468360" y="5157720"/>
            <a:ext cx="8675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9" name="Picture 2" descr="C:\Documents and Settings\Elisa\Desktop\Immagine 155.JPG"/>
          <p:cNvPicPr/>
          <p:nvPr/>
        </p:nvPicPr>
        <p:blipFill>
          <a:blip r:embed="rId1"/>
          <a:stretch/>
        </p:blipFill>
        <p:spPr>
          <a:xfrm rot="19938000">
            <a:off x="704880" y="2433240"/>
            <a:ext cx="3867120" cy="290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C:\Documents and Settings\Elisa\Desktop\Immagine 167.JPG"/>
          <p:cNvPicPr/>
          <p:nvPr/>
        </p:nvPicPr>
        <p:blipFill>
          <a:blip r:embed="rId2"/>
          <a:stretch/>
        </p:blipFill>
        <p:spPr>
          <a:xfrm rot="1192200">
            <a:off x="4581000" y="150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C:\Documents and Settings\Elisa\Desktop\Immagine 146.JPG"/>
          <p:cNvPicPr/>
          <p:nvPr/>
        </p:nvPicPr>
        <p:blipFill>
          <a:blip r:embed="rId3"/>
          <a:stretch/>
        </p:blipFill>
        <p:spPr>
          <a:xfrm>
            <a:off x="4643280" y="4076640"/>
            <a:ext cx="3313440" cy="2484360"/>
          </a:xfrm>
          <a:prstGeom prst="rect">
            <a:avLst/>
          </a:prstGeom>
          <a:ln w="0">
            <a:noFill/>
          </a:ln>
        </p:spPr>
      </p:pic>
      <p:pic>
        <p:nvPicPr>
          <p:cNvPr id="442" name="Titolo 1" descr=""/>
          <p:cNvPicPr/>
          <p:nvPr/>
        </p:nvPicPr>
        <p:blipFill>
          <a:blip r:embed="rId4"/>
          <a:stretch/>
        </p:blipFill>
        <p:spPr>
          <a:xfrm>
            <a:off x="738360" y="328680"/>
            <a:ext cx="7808760" cy="1914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F:\foto\2010\compleanno elisa e pina\IMG_3364.JPG"/>
          <p:cNvPicPr/>
          <p:nvPr/>
        </p:nvPicPr>
        <p:blipFill>
          <a:blip r:embed="rId1"/>
          <a:stretch/>
        </p:blipFill>
        <p:spPr>
          <a:xfrm>
            <a:off x="2484360" y="3500280"/>
            <a:ext cx="4108680" cy="2743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F:\foto\2008\matrimonio anna sergio\IMG_0093.JPG"/>
          <p:cNvPicPr/>
          <p:nvPr/>
        </p:nvPicPr>
        <p:blipFill>
          <a:blip r:embed="rId2"/>
          <a:stretch/>
        </p:blipFill>
        <p:spPr>
          <a:xfrm rot="1358400">
            <a:off x="5098680" y="143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" descr="F:\foto\2008\Palio_Uboldo_2008447.jpg"/>
          <p:cNvPicPr/>
          <p:nvPr/>
        </p:nvPicPr>
        <p:blipFill>
          <a:blip r:embed="rId3"/>
          <a:stretch/>
        </p:blipFill>
        <p:spPr>
          <a:xfrm rot="20278200">
            <a:off x="363600" y="1439640"/>
            <a:ext cx="4130640" cy="2743200"/>
          </a:xfrm>
          <a:prstGeom prst="rect">
            <a:avLst/>
          </a:prstGeom>
          <a:ln w="0">
            <a:noFill/>
          </a:ln>
        </p:spPr>
      </p:pic>
      <p:pic>
        <p:nvPicPr>
          <p:cNvPr id="446" name="Titolo 1" descr=""/>
          <p:cNvPicPr/>
          <p:nvPr/>
        </p:nvPicPr>
        <p:blipFill>
          <a:blip r:embed="rId4"/>
          <a:stretch/>
        </p:blipFill>
        <p:spPr>
          <a:xfrm>
            <a:off x="341280" y="469800"/>
            <a:ext cx="8521560" cy="1077840"/>
          </a:xfrm>
          <a:prstGeom prst="rect">
            <a:avLst/>
          </a:prstGeom>
          <a:ln w="0">
            <a:noFill/>
          </a:ln>
        </p:spPr>
      </p:pic>
      <p:sp>
        <p:nvSpPr>
          <p:cNvPr id="447" name="Sottotitolo 2"/>
          <p:cNvSpPr/>
          <p:nvPr/>
        </p:nvSpPr>
        <p:spPr>
          <a:xfrm>
            <a:off x="324000" y="2133720"/>
            <a:ext cx="11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Pin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Sottotitolo 2"/>
          <p:cNvSpPr/>
          <p:nvPr/>
        </p:nvSpPr>
        <p:spPr>
          <a:xfrm>
            <a:off x="1116000" y="1484280"/>
            <a:ext cx="13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Laur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Sottotitolo 2"/>
          <p:cNvSpPr/>
          <p:nvPr/>
        </p:nvSpPr>
        <p:spPr>
          <a:xfrm>
            <a:off x="4716360" y="3573360"/>
            <a:ext cx="172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Samuel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Sottotitolo 2"/>
          <p:cNvSpPr/>
          <p:nvPr/>
        </p:nvSpPr>
        <p:spPr>
          <a:xfrm>
            <a:off x="5580000" y="566100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Paol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Sottotitolo 2"/>
          <p:cNvSpPr/>
          <p:nvPr/>
        </p:nvSpPr>
        <p:spPr>
          <a:xfrm>
            <a:off x="6622920" y="3933720"/>
            <a:ext cx="1262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Ann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Sottotitolo 2"/>
          <p:cNvSpPr/>
          <p:nvPr/>
        </p:nvSpPr>
        <p:spPr>
          <a:xfrm>
            <a:off x="4788000" y="141300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Deli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Sottotitolo 2"/>
          <p:cNvSpPr/>
          <p:nvPr/>
        </p:nvSpPr>
        <p:spPr>
          <a:xfrm>
            <a:off x="1332000" y="616572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Sottotitolo 2"/>
          <p:cNvSpPr/>
          <p:nvPr/>
        </p:nvSpPr>
        <p:spPr>
          <a:xfrm>
            <a:off x="684360" y="1628640"/>
            <a:ext cx="1942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Sottotitolo 2"/>
          <p:cNvSpPr/>
          <p:nvPr/>
        </p:nvSpPr>
        <p:spPr>
          <a:xfrm>
            <a:off x="2700360" y="3573360"/>
            <a:ext cx="190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Bepp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Sottotitolo 2"/>
          <p:cNvSpPr/>
          <p:nvPr/>
        </p:nvSpPr>
        <p:spPr>
          <a:xfrm>
            <a:off x="7308720" y="357336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Edoardo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olo 1" descr=""/>
          <p:cNvPicPr/>
          <p:nvPr/>
        </p:nvPicPr>
        <p:blipFill>
          <a:blip r:embed="rId1"/>
          <a:stretch/>
        </p:blipFill>
        <p:spPr>
          <a:xfrm>
            <a:off x="268200" y="317520"/>
            <a:ext cx="8521920" cy="1030320"/>
          </a:xfrm>
          <a:prstGeom prst="rect">
            <a:avLst/>
          </a:prstGeom>
          <a:ln w="0">
            <a:noFill/>
          </a:ln>
        </p:spPr>
      </p:pic>
      <p:sp>
        <p:nvSpPr>
          <p:cNvPr id="458" name="Sottotitolo 2"/>
          <p:cNvSpPr/>
          <p:nvPr/>
        </p:nvSpPr>
        <p:spPr>
          <a:xfrm>
            <a:off x="324000" y="5300640"/>
            <a:ext cx="8675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Franklin Gothic Book"/>
              </a:rPr>
              <a:t>La Val di Cogne ...dove ho trascorso le estati della mia infanzia con la mia famiglia e il “Bel Vedere”, un campo di proprietà dove, da piccola andavo a giocare con il nonno e dove, tra qualche anno, sorgerà la casa che ho sempre sognato: una villetta circondata da prato e da alberi da frutto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9" name="Picture 1" descr="F:\foto\2010\cogne\IMG_3245.JPG"/>
          <p:cNvPicPr/>
          <p:nvPr/>
        </p:nvPicPr>
        <p:blipFill>
          <a:blip r:embed="rId2"/>
          <a:stretch/>
        </p:blipFill>
        <p:spPr>
          <a:xfrm>
            <a:off x="250920" y="1268280"/>
            <a:ext cx="4392360" cy="2376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F:\daniel\progetto belvedere\foto campo\22052010187.jpg"/>
          <p:cNvPicPr/>
          <p:nvPr/>
        </p:nvPicPr>
        <p:blipFill>
          <a:blip r:embed="rId3"/>
          <a:stretch/>
        </p:blipFill>
        <p:spPr>
          <a:xfrm>
            <a:off x="4716360" y="1700280"/>
            <a:ext cx="4194360" cy="2592360"/>
          </a:xfrm>
          <a:prstGeom prst="rect">
            <a:avLst/>
          </a:prstGeom>
          <a:ln w="0">
            <a:noFill/>
          </a:ln>
        </p:spPr>
      </p:pic>
      <p:sp>
        <p:nvSpPr>
          <p:cNvPr id="461" name="CasellaDiTesto 10"/>
          <p:cNvSpPr/>
          <p:nvPr/>
        </p:nvSpPr>
        <p:spPr>
          <a:xfrm>
            <a:off x="684360" y="3933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Val di Cogne (Ao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CasellaDiTesto 11"/>
          <p:cNvSpPr/>
          <p:nvPr/>
        </p:nvSpPr>
        <p:spPr>
          <a:xfrm>
            <a:off x="4859280" y="4508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Bel Vedere, Uboldo (Va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Immagine 5" descr="teoria_colori4.jpg"/>
          <p:cNvPicPr/>
          <p:nvPr/>
        </p:nvPicPr>
        <p:blipFill>
          <a:blip r:embed="rId1"/>
          <a:stretch/>
        </p:blipFill>
        <p:spPr>
          <a:xfrm>
            <a:off x="324000" y="1628640"/>
            <a:ext cx="8424720" cy="4942080"/>
          </a:xfrm>
          <a:prstGeom prst="rect">
            <a:avLst/>
          </a:prstGeom>
          <a:ln w="0">
            <a:noFill/>
          </a:ln>
        </p:spPr>
      </p:pic>
      <p:pic>
        <p:nvPicPr>
          <p:cNvPr id="464" name="Titolo 1" descr=""/>
          <p:cNvPicPr/>
          <p:nvPr/>
        </p:nvPicPr>
        <p:blipFill>
          <a:blip r:embed="rId2"/>
          <a:stretch/>
        </p:blipFill>
        <p:spPr>
          <a:xfrm>
            <a:off x="268200" y="317520"/>
            <a:ext cx="8521920" cy="1084320"/>
          </a:xfrm>
          <a:prstGeom prst="rect">
            <a:avLst/>
          </a:prstGeom>
          <a:ln w="0">
            <a:noFill/>
          </a:ln>
        </p:spPr>
      </p:pic>
      <p:sp>
        <p:nvSpPr>
          <p:cNvPr id="465" name="Sottotitolo 2"/>
          <p:cNvSpPr/>
          <p:nvPr/>
        </p:nvSpPr>
        <p:spPr>
          <a:xfrm>
            <a:off x="324000" y="2205000"/>
            <a:ext cx="828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pazient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         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dinamica                   socievo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allegra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                   sincer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  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gelosa            testard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olo 1" descr=""/>
          <p:cNvPicPr/>
          <p:nvPr/>
        </p:nvPicPr>
        <p:blipFill>
          <a:blip r:embed="rId1"/>
          <a:stretch/>
        </p:blipFill>
        <p:spPr>
          <a:xfrm>
            <a:off x="341280" y="822240"/>
            <a:ext cx="8521560" cy="1092240"/>
          </a:xfrm>
          <a:prstGeom prst="rect">
            <a:avLst/>
          </a:prstGeom>
          <a:ln w="0">
            <a:noFill/>
          </a:ln>
        </p:spPr>
      </p:pic>
      <p:sp>
        <p:nvSpPr>
          <p:cNvPr id="467" name="Sottotitolo 2"/>
          <p:cNvSpPr/>
          <p:nvPr/>
        </p:nvSpPr>
        <p:spPr>
          <a:xfrm>
            <a:off x="324000" y="1916280"/>
            <a:ext cx="532764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brontolon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gelos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permalos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poco sportiv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testard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8" name="Picture 2" descr="http://arjelle.altervista.org/Tesine/Irene/diavoletto.png"/>
          <p:cNvPicPr/>
          <p:nvPr/>
        </p:nvPicPr>
        <p:blipFill>
          <a:blip r:embed="rId2"/>
          <a:stretch/>
        </p:blipFill>
        <p:spPr>
          <a:xfrm>
            <a:off x="4643280" y="2349360"/>
            <a:ext cx="3600720" cy="3800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olo 1" descr=""/>
          <p:cNvPicPr/>
          <p:nvPr/>
        </p:nvPicPr>
        <p:blipFill>
          <a:blip r:embed="rId1"/>
          <a:stretch/>
        </p:blipFill>
        <p:spPr>
          <a:xfrm>
            <a:off x="554040" y="828720"/>
            <a:ext cx="7596360" cy="1060560"/>
          </a:xfrm>
          <a:prstGeom prst="rect">
            <a:avLst/>
          </a:prstGeom>
          <a:ln w="0">
            <a:noFill/>
          </a:ln>
        </p:spPr>
      </p:pic>
      <p:sp>
        <p:nvSpPr>
          <p:cNvPr id="470" name="Sottotitolo 2"/>
          <p:cNvSpPr/>
          <p:nvPr/>
        </p:nvSpPr>
        <p:spPr>
          <a:xfrm>
            <a:off x="5292720" y="1844640"/>
            <a:ext cx="33829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generos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intelligent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cordia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solar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pazient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servizievo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ordinat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determinat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1" name="Picture 2" descr="http://www.ilpaesedeibambinichesorridono.it/images/angolo_poesia/poesie_adulti/paradiso/15.gif"/>
          <p:cNvPicPr/>
          <p:nvPr/>
        </p:nvPicPr>
        <p:blipFill>
          <a:blip r:embed="rId2"/>
          <a:stretch/>
        </p:blipFill>
        <p:spPr>
          <a:xfrm>
            <a:off x="826920" y="1989000"/>
            <a:ext cx="3313440" cy="433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olo 1" descr=""/>
          <p:cNvPicPr/>
          <p:nvPr/>
        </p:nvPicPr>
        <p:blipFill>
          <a:blip r:embed="rId1"/>
          <a:stretch/>
        </p:blipFill>
        <p:spPr>
          <a:xfrm>
            <a:off x="738360" y="615960"/>
            <a:ext cx="7808760" cy="2163600"/>
          </a:xfrm>
          <a:prstGeom prst="rect">
            <a:avLst/>
          </a:prstGeom>
          <a:ln w="0">
            <a:noFill/>
          </a:ln>
        </p:spPr>
      </p:pic>
      <p:sp>
        <p:nvSpPr>
          <p:cNvPr id="403" name="Sottotitolo 2"/>
          <p:cNvSpPr/>
          <p:nvPr/>
        </p:nvSpPr>
        <p:spPr>
          <a:xfrm>
            <a:off x="3203640" y="2421000"/>
            <a:ext cx="5400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Sono Elisa Test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Sono nata a Tradate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il 26 Ottobre 1978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Vivo ad Uboldo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in provincia di Vares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4" name="Picture 1" descr="F:\foto\2004\laurea daniel\Laurea barcella\DSCN0007.JPG"/>
          <p:cNvPicPr/>
          <p:nvPr/>
        </p:nvPicPr>
        <p:blipFill>
          <a:blip r:embed="rId2"/>
          <a:stretch/>
        </p:blipFill>
        <p:spPr>
          <a:xfrm>
            <a:off x="324000" y="2276640"/>
            <a:ext cx="4394160" cy="329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olo 1" descr=""/>
          <p:cNvPicPr/>
          <p:nvPr/>
        </p:nvPicPr>
        <p:blipFill>
          <a:blip r:embed="rId1"/>
          <a:stretch/>
        </p:blipFill>
        <p:spPr>
          <a:xfrm>
            <a:off x="738360" y="615960"/>
            <a:ext cx="7808760" cy="1633680"/>
          </a:xfrm>
          <a:prstGeom prst="rect">
            <a:avLst/>
          </a:prstGeom>
          <a:ln w="0">
            <a:noFill/>
          </a:ln>
        </p:spPr>
      </p:pic>
      <p:sp>
        <p:nvSpPr>
          <p:cNvPr id="406" name="Titolo 1"/>
          <p:cNvSpPr/>
          <p:nvPr/>
        </p:nvSpPr>
        <p:spPr>
          <a:xfrm>
            <a:off x="785880" y="5495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7" name="Picture 2" descr="F:\Elisa\foto eli\vecchie\Senza titolo-8a.jpg"/>
          <p:cNvPicPr/>
          <p:nvPr/>
        </p:nvPicPr>
        <p:blipFill>
          <a:blip r:embed="rId2"/>
          <a:stretch/>
        </p:blipFill>
        <p:spPr>
          <a:xfrm>
            <a:off x="755640" y="1989000"/>
            <a:ext cx="2749680" cy="3657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F:\Elisa\foto eli\vecchie\Senza titolo-7a.jpg"/>
          <p:cNvPicPr/>
          <p:nvPr/>
        </p:nvPicPr>
        <p:blipFill>
          <a:blip r:embed="rId3"/>
          <a:stretch/>
        </p:blipFill>
        <p:spPr>
          <a:xfrm>
            <a:off x="5292720" y="1989000"/>
            <a:ext cx="2468520" cy="3657600"/>
          </a:xfrm>
          <a:prstGeom prst="rect">
            <a:avLst/>
          </a:prstGeom>
          <a:ln w="0">
            <a:noFill/>
          </a:ln>
        </p:spPr>
      </p:pic>
      <p:sp>
        <p:nvSpPr>
          <p:cNvPr id="409" name="CasellaDiTesto 6"/>
          <p:cNvSpPr/>
          <p:nvPr/>
        </p:nvSpPr>
        <p:spPr>
          <a:xfrm>
            <a:off x="1042920" y="58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Estate 198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CasellaDiTesto 8"/>
          <p:cNvSpPr/>
          <p:nvPr/>
        </p:nvSpPr>
        <p:spPr>
          <a:xfrm>
            <a:off x="550872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Estate  198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olo 1" descr=""/>
          <p:cNvPicPr/>
          <p:nvPr/>
        </p:nvPicPr>
        <p:blipFill>
          <a:blip r:embed="rId1"/>
          <a:stretch/>
        </p:blipFill>
        <p:spPr>
          <a:xfrm>
            <a:off x="665280" y="255600"/>
            <a:ext cx="7808760" cy="2584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F:\foto\2007\Matrimonio MIO\foto franci\IMG_0033.JPG"/>
          <p:cNvPicPr/>
          <p:nvPr/>
        </p:nvPicPr>
        <p:blipFill>
          <a:blip r:embed="rId2"/>
          <a:stretch/>
        </p:blipFill>
        <p:spPr>
          <a:xfrm>
            <a:off x="971640" y="1700280"/>
            <a:ext cx="2592360" cy="3889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F:\foto\2007\Matrimonio MIO\foto franci\IMG_0025.JPG"/>
          <p:cNvPicPr/>
          <p:nvPr/>
        </p:nvPicPr>
        <p:blipFill>
          <a:blip r:embed="rId3"/>
          <a:stretch/>
        </p:blipFill>
        <p:spPr>
          <a:xfrm>
            <a:off x="5435640" y="1773360"/>
            <a:ext cx="2527200" cy="3789360"/>
          </a:xfrm>
          <a:prstGeom prst="rect">
            <a:avLst/>
          </a:prstGeom>
          <a:ln w="0">
            <a:noFill/>
          </a:ln>
        </p:spPr>
      </p:pic>
      <p:sp>
        <p:nvSpPr>
          <p:cNvPr id="414" name="Sottotitolo 2"/>
          <p:cNvSpPr/>
          <p:nvPr/>
        </p:nvSpPr>
        <p:spPr>
          <a:xfrm>
            <a:off x="1835280" y="5589720"/>
            <a:ext cx="53290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Mio papà Bruno, mia mamma Rita e mio fratello Paolo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olo 1" descr=""/>
          <p:cNvPicPr/>
          <p:nvPr/>
        </p:nvPicPr>
        <p:blipFill>
          <a:blip r:embed="rId1"/>
          <a:stretch/>
        </p:blipFill>
        <p:spPr>
          <a:xfrm>
            <a:off x="884160" y="328680"/>
            <a:ext cx="7802640" cy="2560680"/>
          </a:xfrm>
          <a:prstGeom prst="rect">
            <a:avLst/>
          </a:prstGeom>
          <a:ln w="0">
            <a:noFill/>
          </a:ln>
        </p:spPr>
      </p:pic>
      <p:sp>
        <p:nvSpPr>
          <p:cNvPr id="416" name="Sottotitolo 2"/>
          <p:cNvSpPr/>
          <p:nvPr/>
        </p:nvSpPr>
        <p:spPr>
          <a:xfrm>
            <a:off x="-36360" y="5589720"/>
            <a:ext cx="921672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Sottotitolo 2"/>
          <p:cNvSpPr/>
          <p:nvPr/>
        </p:nvSpPr>
        <p:spPr>
          <a:xfrm>
            <a:off x="1835280" y="5589720"/>
            <a:ext cx="53290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Franklin Gothic Book"/>
              </a:rPr>
              <a:t>15 Settembre 2007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Franklin Gothic Book"/>
              </a:rPr>
              <a:t>Elisa &amp; Dani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8" name="Picture 2" descr="C:\Documents and Settings\Elisa\Desktop\IMG_0148.JPG"/>
          <p:cNvPicPr/>
          <p:nvPr/>
        </p:nvPicPr>
        <p:blipFill>
          <a:blip r:embed="rId2"/>
          <a:stretch/>
        </p:blipFill>
        <p:spPr>
          <a:xfrm>
            <a:off x="6084720" y="2133720"/>
            <a:ext cx="2438640" cy="3657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Elisa\Desktop\IMG_0064.JPG"/>
          <p:cNvPicPr/>
          <p:nvPr/>
        </p:nvPicPr>
        <p:blipFill>
          <a:blip r:embed="rId3"/>
          <a:stretch/>
        </p:blipFill>
        <p:spPr>
          <a:xfrm>
            <a:off x="3276720" y="234936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Elisa\Desktop\XK5K9634.jpg"/>
          <p:cNvPicPr/>
          <p:nvPr/>
        </p:nvPicPr>
        <p:blipFill>
          <a:blip r:embed="rId4"/>
          <a:stretch/>
        </p:blipFill>
        <p:spPr>
          <a:xfrm rot="20637600">
            <a:off x="539280" y="19162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D:\ELISA\Immagini e foto\Matrimonio MIO\foto franci\XK5K9602.JPG"/>
          <p:cNvPicPr/>
          <p:nvPr/>
        </p:nvPicPr>
        <p:blipFill>
          <a:blip r:embed="rId5"/>
          <a:stretch/>
        </p:blipFill>
        <p:spPr>
          <a:xfrm rot="557400">
            <a:off x="678960" y="416412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84360" y="4581000"/>
            <a:ext cx="77724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2b1"/>
                </a:solidFill>
                <a:latin typeface="Franklin Gothic Book"/>
              </a:rPr>
              <a:t>E’ il 14 maggio 2011 h.14.24</a:t>
            </a:r>
            <a:endParaRPr b="0" lang="en-US" sz="3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2b1"/>
                </a:solidFill>
                <a:latin typeface="Franklin Gothic Book"/>
              </a:rPr>
              <a:t>Nasce Matteo, Kg  3,860, h. Cm 52</a:t>
            </a:r>
            <a:endParaRPr b="0" lang="en-US" sz="30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23" name="Titolo 1" descr=""/>
          <p:cNvPicPr/>
          <p:nvPr/>
        </p:nvPicPr>
        <p:blipFill>
          <a:blip r:embed="rId1"/>
          <a:stretch/>
        </p:blipFill>
        <p:spPr>
          <a:xfrm>
            <a:off x="523800" y="255600"/>
            <a:ext cx="7802640" cy="232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F:\foto\matteo\matteo 0-1m\IMG_3925.JPG"/>
          <p:cNvPicPr/>
          <p:nvPr/>
        </p:nvPicPr>
        <p:blipFill>
          <a:blip r:embed="rId2"/>
          <a:stretch/>
        </p:blipFill>
        <p:spPr>
          <a:xfrm>
            <a:off x="2050920" y="1844640"/>
            <a:ext cx="5185080" cy="3460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olo 1" descr=""/>
          <p:cNvPicPr/>
          <p:nvPr/>
        </p:nvPicPr>
        <p:blipFill>
          <a:blip r:embed="rId1"/>
          <a:stretch/>
        </p:blipFill>
        <p:spPr>
          <a:xfrm>
            <a:off x="738360" y="469800"/>
            <a:ext cx="7808760" cy="1913040"/>
          </a:xfrm>
          <a:prstGeom prst="rect">
            <a:avLst/>
          </a:prstGeom>
          <a:ln w="0">
            <a:noFill/>
          </a:ln>
        </p:spPr>
      </p:pic>
      <p:sp>
        <p:nvSpPr>
          <p:cNvPr id="426" name="Sottotitolo 2"/>
          <p:cNvSpPr/>
          <p:nvPr/>
        </p:nvSpPr>
        <p:spPr>
          <a:xfrm>
            <a:off x="468360" y="5157720"/>
            <a:ext cx="8675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7" name="Picture 2" descr="F:\foto\matteo\matteo 6-12\a.jpg"/>
          <p:cNvPicPr/>
          <p:nvPr/>
        </p:nvPicPr>
        <p:blipFill>
          <a:blip r:embed="rId2"/>
          <a:stretch/>
        </p:blipFill>
        <p:spPr>
          <a:xfrm>
            <a:off x="1979640" y="1989000"/>
            <a:ext cx="5346720" cy="3657600"/>
          </a:xfrm>
          <a:prstGeom prst="rect">
            <a:avLst/>
          </a:prstGeom>
          <a:ln w="0">
            <a:noFill/>
          </a:ln>
        </p:spPr>
      </p:pic>
      <p:sp>
        <p:nvSpPr>
          <p:cNvPr id="428" name="CasellaDiTesto 5"/>
          <p:cNvSpPr/>
          <p:nvPr/>
        </p:nvSpPr>
        <p:spPr>
          <a:xfrm>
            <a:off x="1908000" y="587700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Il nostro primo Natale insiem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olo 1" descr=""/>
          <p:cNvPicPr/>
          <p:nvPr/>
        </p:nvPicPr>
        <p:blipFill>
          <a:blip r:embed="rId1"/>
          <a:stretch/>
        </p:blipFill>
        <p:spPr>
          <a:xfrm>
            <a:off x="665280" y="396720"/>
            <a:ext cx="7808760" cy="1640160"/>
          </a:xfrm>
          <a:prstGeom prst="rect">
            <a:avLst/>
          </a:prstGeom>
          <a:ln w="0">
            <a:noFill/>
          </a:ln>
        </p:spPr>
      </p:pic>
      <p:sp>
        <p:nvSpPr>
          <p:cNvPr id="430" name="Sottotitolo 2"/>
          <p:cNvSpPr/>
          <p:nvPr/>
        </p:nvSpPr>
        <p:spPr>
          <a:xfrm>
            <a:off x="468360" y="4869000"/>
            <a:ext cx="8424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Dopo il Liceo, mi sono laureata il 17 luglio 2003 in Psicologia (laurea quinquennale) presso l’Università degli Studi Milano Bicocca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Picture 2" descr="F:\foto\2003\laurea elisa\laurea02_RJ.JPG"/>
          <p:cNvPicPr/>
          <p:nvPr/>
        </p:nvPicPr>
        <p:blipFill>
          <a:blip r:embed="rId2"/>
          <a:stretch/>
        </p:blipFill>
        <p:spPr>
          <a:xfrm>
            <a:off x="5940360" y="1557360"/>
            <a:ext cx="2160720" cy="32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F:\foto\2003\laurea elisa\laurea13_RJ.JPG"/>
          <p:cNvPicPr/>
          <p:nvPr/>
        </p:nvPicPr>
        <p:blipFill>
          <a:blip r:embed="rId3"/>
          <a:stretch/>
        </p:blipFill>
        <p:spPr>
          <a:xfrm>
            <a:off x="755640" y="1557360"/>
            <a:ext cx="4824360" cy="3216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olo 1" descr=""/>
          <p:cNvPicPr/>
          <p:nvPr/>
        </p:nvPicPr>
        <p:blipFill>
          <a:blip r:embed="rId1"/>
          <a:stretch/>
        </p:blipFill>
        <p:spPr>
          <a:xfrm>
            <a:off x="590400" y="615960"/>
            <a:ext cx="7810560" cy="1504800"/>
          </a:xfrm>
          <a:prstGeom prst="rect">
            <a:avLst/>
          </a:prstGeom>
          <a:ln w="0">
            <a:noFill/>
          </a:ln>
        </p:spPr>
      </p:pic>
      <p:sp>
        <p:nvSpPr>
          <p:cNvPr id="434" name="Sottotitolo 2"/>
          <p:cNvSpPr/>
          <p:nvPr/>
        </p:nvSpPr>
        <p:spPr>
          <a:xfrm>
            <a:off x="468360" y="5329080"/>
            <a:ext cx="86756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Sottotitolo 2"/>
          <p:cNvSpPr/>
          <p:nvPr/>
        </p:nvSpPr>
        <p:spPr>
          <a:xfrm>
            <a:off x="1835280" y="5373720"/>
            <a:ext cx="53290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Franklin Gothic Book"/>
              </a:rPr>
              <a:t>Dal 2005 lavoro presso l’Istituto Orsoline San Carlo di Saronno come insegnante di sostegno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6" name="Picture 2" descr="http://www.orsolinescuolalanzone.it/img/contatti_saronno.jpg"/>
          <p:cNvPicPr/>
          <p:nvPr/>
        </p:nvPicPr>
        <p:blipFill>
          <a:blip r:embed="rId2"/>
          <a:stretch/>
        </p:blipFill>
        <p:spPr>
          <a:xfrm>
            <a:off x="4643280" y="1916280"/>
            <a:ext cx="3241800" cy="32414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http://www.orsolinesaronno.it/img/banner_centenario_sanangela.gif"/>
          <p:cNvPicPr/>
          <p:nvPr/>
        </p:nvPicPr>
        <p:blipFill>
          <a:blip r:embed="rId3"/>
          <a:stretch/>
        </p:blipFill>
        <p:spPr>
          <a:xfrm>
            <a:off x="900000" y="1916280"/>
            <a:ext cx="3240360" cy="327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21:43:23Z</dcterms:created>
  <dc:creator>ELE</dc:creator>
  <dc:description/>
  <dc:language>en-US</dc:language>
  <cp:lastModifiedBy>Elisa</cp:lastModifiedBy>
  <dcterms:modified xsi:type="dcterms:W3CDTF">2012-10-21T16:34:16Z</dcterms:modified>
  <cp:revision>86</cp:revision>
  <dc:subject/>
  <dc:title>AUTOPRESENTAZIONE</dc:title>
</cp:coreProperties>
</file>